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wmf" ContentType="image/x-wmf"/>
  <Override PartName="/ppt/media/image12.jpeg" ContentType="image/jpeg"/>
  <Override PartName="/ppt/media/image7.jpeg" ContentType="image/jpeg"/>
  <Override PartName="/ppt/media/image11.jpeg" ContentType="image/jpeg"/>
  <Override PartName="/ppt/media/image23.wmf" ContentType="image/x-wmf"/>
  <Override PartName="/ppt/media/image6.jpeg" ContentType="image/jpeg"/>
  <Override PartName="/ppt/media/image13.jpeg" ContentType="image/jpeg"/>
  <Override PartName="/ppt/media/image24.wmf" ContentType="image/x-wmf"/>
  <Override PartName="/ppt/media/image21.jpeg" ContentType="image/jpeg"/>
  <Override PartName="/ppt/media/image20.jpeg" ContentType="image/jpeg"/>
  <Override PartName="/ppt/media/image3.wmf" ContentType="image/x-wmf"/>
  <Override PartName="/ppt/media/image15.jpeg" ContentType="image/jpeg"/>
  <Override PartName="/ppt/media/image19.jpeg" ContentType="image/jpeg"/>
  <Override PartName="/ppt/media/image4.wmf" ContentType="image/x-wmf"/>
  <Override PartName="/ppt/media/image18.jpeg" ContentType="image/jpeg"/>
  <Override PartName="/ppt/media/image17.png" ContentType="image/png"/>
  <Override PartName="/ppt/media/image16.wmf" ContentType="image/x-wmf"/>
  <Override PartName="/ppt/media/image14.wmf" ContentType="image/x-wmf"/>
  <Override PartName="/ppt/media/image1.jpeg" ContentType="image/jpeg"/>
  <Override PartName="/ppt/media/image22.jpeg" ContentType="image/jpeg"/>
  <Override PartName="/ppt/media/image2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8046-CBFE-4A87-B509-7E5127F5C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E8BE-CC86-4132-8B08-80DD05518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A6EE-4E87-4F16-92B1-D9AB87801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1971-73BD-44B3-839E-11E2257AA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677CC-DBEB-4BC6-BE91-9F7583238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C0329-A3C1-4393-9E15-043E88811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48512-69AC-4843-A680-12BFB9493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68790-4227-4855-B200-9A0C9E672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2155F-E9E1-497B-A0E8-5C91B542C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1757D-0F91-4D9E-93CB-70E240CC2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C1AFB-5308-4717-9C30-67DB5D0C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8407-F780-4891-A6C9-6069F1467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08A32-914C-4F39-A4A7-ED6A7FDD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7E6A6-79FC-4505-962A-0B6490C7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9889E-B6EA-4B8D-A4DF-142D7331C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7349F-48F6-4682-993F-73F930847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331C1-7103-4FA8-9910-45BEEFC6B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A15D-AD07-4080-841B-641753641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1CA7-5DBD-498A-88D9-B16DD789C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97E0-7868-4517-8696-DCE8AEDFF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B6AB-53E7-4803-8C01-4A041D8A2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78E1-911C-4DD1-9ACB-E8268575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C49C-7A31-4344-8682-E84E5F72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76A7-71A6-4D5C-BFB2-01E2AE12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5B30B-3405-4D8D-B423-8984EF6CD21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6C34E-2681-4EF1-99D9-E346A26FE5D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8.jpe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5" descr="6big"/>
          <p:cNvPicPr/>
          <p:nvPr/>
        </p:nvPicPr>
        <p:blipFill>
          <a:blip r:embed="rId1"/>
          <a:stretch/>
        </p:blipFill>
        <p:spPr>
          <a:xfrm>
            <a:off x="4716360" y="260280"/>
            <a:ext cx="3961080" cy="39607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3348000" y="4723920"/>
            <a:ext cx="557208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Verdana"/>
              </a:rPr>
              <a:t>Автор: 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Verdana"/>
              </a:rPr>
              <a:t>Игнатова Анастасия,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Verdana"/>
              </a:rPr>
              <a:t>студентка 143 группы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WordArt 6"/>
          <p:cNvSpPr txBox="1"/>
          <p:nvPr/>
        </p:nvSpPr>
        <p:spPr>
          <a:xfrm>
            <a:off x="395280" y="1268280"/>
            <a:ext cx="70675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33cc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лобальное потепление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33cc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33cc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33cc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advTm="15000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780"/>
                            </p:stCondLst>
                            <p:childTnLst>
                              <p:par>
                                <p:cTn id="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540"/>
                            </p:stCondLst>
                            <p:childTnLst>
                              <p:par>
                                <p:cTn id="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Гольфстрим потечет в другую сторону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3" name="Picture 5" descr=" "/>
          <p:cNvPicPr/>
          <p:nvPr/>
        </p:nvPicPr>
        <p:blipFill>
          <a:blip r:embed="rId2"/>
          <a:stretch/>
        </p:blipFill>
        <p:spPr>
          <a:xfrm>
            <a:off x="4716360" y="1413000"/>
            <a:ext cx="3954600" cy="28861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8" descr="i?id=4219361&amp;tov=8"/>
          <p:cNvPicPr/>
          <p:nvPr/>
        </p:nvPicPr>
        <p:blipFill>
          <a:blip r:embed="rId3"/>
          <a:stretch/>
        </p:blipFill>
        <p:spPr>
          <a:xfrm>
            <a:off x="539640" y="2708280"/>
            <a:ext cx="4370400" cy="39132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13600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Если ледники растают, то к концу нынешнего века уровень Мирового океана поднимется на 1 метр. Вода затопит многие прибрежные регионы и, возможно, будет сдерживать Гольфстрим, который приносит теплую воду и формирует погоду в Cеверной Европе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По мере таяния арктического льда темп глобального потепления будет нарастать. Так как лед отражает большую часть солнечного тепла обратно в космос, меньший ледяной покров будет означать, что земля будет абсорбировать больше тепла.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advTm="15000">
    <p:blinds dir="horz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500"/>
                            </p:stCondLst>
                            <p:childTnLst>
                              <p:par>
                                <p:cTn id="38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500"/>
                            </p:stCondLst>
                            <p:childTnLst>
                              <p:par>
                                <p:cTn id="38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9" descr="arktika_12"/>
          <p:cNvPicPr/>
          <p:nvPr/>
        </p:nvPicPr>
        <p:blipFill>
          <a:blip r:embed="rId1"/>
          <a:stretch/>
        </p:blipFill>
        <p:spPr>
          <a:xfrm>
            <a:off x="0" y="333360"/>
            <a:ext cx="4870440" cy="3672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arktika_7"/>
          <p:cNvPicPr/>
          <p:nvPr/>
        </p:nvPicPr>
        <p:blipFill>
          <a:blip r:embed="rId2"/>
          <a:stretch/>
        </p:blipFill>
        <p:spPr>
          <a:xfrm>
            <a:off x="4230720" y="765000"/>
            <a:ext cx="4913280" cy="5328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3" descr="alt"/>
          <p:cNvPicPr/>
          <p:nvPr/>
        </p:nvPicPr>
        <p:blipFill>
          <a:blip r:embed="rId3"/>
          <a:stretch/>
        </p:blipFill>
        <p:spPr>
          <a:xfrm>
            <a:off x="250920" y="2276640"/>
            <a:ext cx="5761080" cy="43210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95280" y="1341360"/>
            <a:ext cx="8362800" cy="49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асения ученых по поводу того, что глобальное потепление может привести к сильному похолоданию, возникали уже не раз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мнению исследователей, 50 млн. лет назад северные моря были теплее на 10°С, но затем начали охлаждаться, что привело к оледенению            3 млн. лет назад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еные хотят выяснить, как сток пресных вод от таяния ледников влияет на зарождающиеся на севере глубоководные течения, которые, в свою очередь, влияют на климат Земли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амые смелые теории утверждают, что из-за продолжающегося глобального потепления в далеком будущем льды могут совсем растаять. Из-за этого ослабеют течения, что приведет уже к охлаждению климата.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Text Box 14"/>
          <p:cNvSpPr/>
          <p:nvPr/>
        </p:nvSpPr>
        <p:spPr>
          <a:xfrm>
            <a:off x="1312200" y="333360"/>
            <a:ext cx="659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Verdana"/>
              </a:rPr>
              <a:t>А может быть замерзнем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advTm="15000">
    <p:blinds dir="horz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450"/>
                            </p:stCondLst>
                            <p:childTnLst>
                              <p:par>
                                <p:cTn id="40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77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8" dur="770" fill="hold"/>
                                        <p:tgtEl>
                                          <p:spTgt spid="1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0" dur="77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2" dur="77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3450"/>
                            </p:stCondLst>
                            <p:childTnLst>
                              <p:par>
                                <p:cTn id="41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77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8" dur="770" fill="hold"/>
                                        <p:tgtEl>
                                          <p:spTgt spid="1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0" dur="77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2" dur="77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450"/>
                            </p:stCondLst>
                            <p:childTnLst>
                              <p:par>
                                <p:cTn id="42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77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8" dur="770" fill="hold"/>
                                        <p:tgtEl>
                                          <p:spTgt spid="1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0" dur="77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2" dur="77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7450"/>
                            </p:stCondLst>
                            <p:childTnLst>
                              <p:par>
                                <p:cTn id="43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8450"/>
                            </p:stCondLst>
                            <p:childTnLst>
                              <p:par>
                                <p:cTn id="44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9450"/>
                            </p:stCondLst>
                            <p:childTnLst>
                              <p:par>
                                <p:cTn id="45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0450"/>
                            </p:stCondLst>
                            <p:childTnLst>
                              <p:par>
                                <p:cTn id="45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Вывод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учив несколько гипотез, мы пришли к выводу, что наибольшей правдоподобностью обладает теория о постепенном таянии ледников, остывании теплого течения Гольф-стрим и, в результате, похолодани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14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Verdana"/>
              </a:rPr>
              <a:t>Неужели замерзнем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3" name="Picture 4" descr="j0078714"/>
          <p:cNvPicPr/>
          <p:nvPr/>
        </p:nvPicPr>
        <p:blipFill>
          <a:blip r:embed="rId1"/>
          <a:stretch/>
        </p:blipFill>
        <p:spPr>
          <a:xfrm>
            <a:off x="0" y="0"/>
            <a:ext cx="1471680" cy="27669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j0078832"/>
          <p:cNvPicPr/>
          <p:nvPr/>
        </p:nvPicPr>
        <p:blipFill>
          <a:blip r:embed="rId2"/>
          <a:stretch/>
        </p:blipFill>
        <p:spPr>
          <a:xfrm>
            <a:off x="6084720" y="4508640"/>
            <a:ext cx="1795680" cy="1922400"/>
          </a:xfrm>
          <a:prstGeom prst="rect">
            <a:avLst/>
          </a:prstGeom>
          <a:ln w="0">
            <a:noFill/>
          </a:ln>
        </p:spPr>
      </p:pic>
    </p:spTree>
  </p:cSld>
  <p:transition advTm="15000">
    <p:blinds dir="horz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пасибо за информацию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cc"/>
                </a:solidFill>
                <a:latin typeface="Verdana"/>
              </a:rPr>
              <a:t>http://lenta.ru/science/2004/05/18/arctic/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cc"/>
                </a:solidFill>
                <a:latin typeface="Verdana"/>
              </a:rPr>
              <a:t>http://www.utro.ru/articles/2004/11/12/373282.shtm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cc"/>
                </a:solidFill>
                <a:latin typeface="Verdana"/>
              </a:rPr>
              <a:t>http://www.worldwarming.info/article7.htm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ffffcc"/>
                </a:solidFill>
                <a:uFillTx/>
                <a:latin typeface="Verdana"/>
              </a:rPr>
              <a:t>http://www.utro.ru/articles/2004/11/02/369410.shtm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advTm="15000">
    <p:blinds dir="horz"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500"/>
                            </p:stCondLst>
                            <p:childTnLst>
                              <p:par>
                                <p:cTn id="5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2500"/>
                            </p:stCondLst>
                            <p:childTnLst>
                              <p:par>
                                <p:cTn id="5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3500"/>
                            </p:stCondLst>
                            <p:childTnLst>
                              <p:par>
                                <p:cTn id="5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уда пойдем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Цел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Этапы исследовани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 может быть болото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ругой сценари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 может быть и море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ольфстри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 может быть замерзнем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ывод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нформаци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advTm="15000">
    <p:blinds dir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50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000"/>
                            </p:stCondLst>
                            <p:childTnLst>
                              <p:par>
                                <p:cTn id="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500"/>
                            </p:stCondLst>
                            <p:childTnLst>
                              <p:par>
                                <p:cTn id="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500"/>
                            </p:stCondLst>
                            <p:childTnLst>
                              <p:par>
                                <p:cTn id="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6000"/>
                            </p:stCondLst>
                            <p:childTnLst>
                              <p:par>
                                <p:cTn id="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2" descr="j0078770"/>
          <p:cNvPicPr/>
          <p:nvPr/>
        </p:nvPicPr>
        <p:blipFill>
          <a:blip r:embed="rId1"/>
          <a:stretch/>
        </p:blipFill>
        <p:spPr>
          <a:xfrm>
            <a:off x="5435640" y="4221000"/>
            <a:ext cx="3376440" cy="2206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1" descr="j0078753"/>
          <p:cNvPicPr/>
          <p:nvPr/>
        </p:nvPicPr>
        <p:blipFill>
          <a:blip r:embed="rId2"/>
          <a:stretch/>
        </p:blipFill>
        <p:spPr>
          <a:xfrm>
            <a:off x="468360" y="620640"/>
            <a:ext cx="2409840" cy="25621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20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Исследовать различные гипотезы, выдвигаемые учеными о глобальном потеплени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3891960" y="476280"/>
            <a:ext cx="3149280" cy="581400"/>
          </a:xfrm>
          <a:prstGeom prst="rect">
            <a:avLst/>
          </a:prstGeom>
          <a:noFill/>
          <a:ln w="763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Verdana"/>
              </a:rPr>
              <a:t>Цель проекта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2445480" y="3141720"/>
            <a:ext cx="4444920" cy="459720"/>
          </a:xfrm>
          <a:prstGeom prst="rect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Verdana"/>
              </a:rPr>
              <a:t>Основополагающий вопрос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2771640" y="4508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395280" y="4365720"/>
            <a:ext cx="504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К чему приведет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глобальное потепление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advTm="15000">
    <p:blinds dir="horz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100"/>
                            </p:stCondLst>
                            <p:childTnLst>
                              <p:par>
                                <p:cTn id="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100"/>
                            </p:stCondLst>
                            <p:childTnLst>
                              <p:par>
                                <p:cTn id="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100"/>
                            </p:stCondLst>
                            <p:childTnLst>
                              <p:par>
                                <p:cTn id="9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100"/>
                            </p:stCondLst>
                            <p:childTnLst>
                              <p:par>
                                <p:cTn id="1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6600"/>
                            </p:stCondLst>
                            <p:childTnLst>
                              <p:par>
                                <p:cTn id="12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8750"/>
                            </p:stCondLst>
                            <p:childTnLst>
                              <p:par>
                                <p:cTn id="12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33"/>
                </a:solidFill>
                <a:latin typeface="Arial"/>
              </a:rPr>
              <a:t>Этапы исследова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9" name="Picture 4" descr="j0078701"/>
          <p:cNvPicPr/>
          <p:nvPr/>
        </p:nvPicPr>
        <p:blipFill>
          <a:blip r:embed="rId1"/>
          <a:stretch/>
        </p:blipFill>
        <p:spPr>
          <a:xfrm>
            <a:off x="6912000" y="2776680"/>
            <a:ext cx="2232000" cy="408132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136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Найти несколько гипотез ученых на тему глобального потепления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Выявить из них самые правдоподобные и научно-обоснованные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Изучить гипотезы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Определить наиболее вероятное развитие глобального потепления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advTm="15000">
    <p:blinds dir="horz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800"/>
                            </p:stCondLst>
                            <p:childTnLst>
                              <p:par>
                                <p:cTn id="14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800"/>
                            </p:stCondLst>
                            <p:childTnLst>
                              <p:par>
                                <p:cTn id="15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800"/>
                            </p:stCondLst>
                            <p:childTnLst>
                              <p:par>
                                <p:cTn id="15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7800"/>
                            </p:stCondLst>
                            <p:childTnLst>
                              <p:par>
                                <p:cTn id="16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9800"/>
                            </p:stCondLst>
                            <p:childTnLst>
                              <p:par>
                                <p:cTn id="1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Ученые уже не первый год спорят</a:t>
            </a: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2" name="Picture 5" descr="703big"/>
          <p:cNvPicPr/>
          <p:nvPr/>
        </p:nvPicPr>
        <p:blipFill>
          <a:blip r:embed="rId1"/>
          <a:stretch/>
        </p:blipFill>
        <p:spPr>
          <a:xfrm>
            <a:off x="5076720" y="1557360"/>
            <a:ext cx="3832200" cy="38322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Земля 222, фото Земля 222"/>
          <p:cNvPicPr/>
          <p:nvPr/>
        </p:nvPicPr>
        <p:blipFill>
          <a:blip r:embed="rId2"/>
          <a:stretch/>
        </p:blipFill>
        <p:spPr>
          <a:xfrm>
            <a:off x="395280" y="3141720"/>
            <a:ext cx="4968720" cy="35161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584352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 том, что принесет с собой глобальное потепление - какие регионы планеты через сто лет превратятся в жаркую пустыню, а какие будут покрыты льдом.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advTm="15000">
    <p:blinds dir="horz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250"/>
                            </p:stCondLst>
                            <p:childTnLst>
                              <p:par>
                                <p:cTn id="18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250"/>
                            </p:stCondLst>
                            <p:childTnLst>
                              <p:par>
                                <p:cTn id="18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825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7" descr="final_IMG_4975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981000"/>
            <a:ext cx="4392720" cy="42768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716360" y="907920"/>
            <a:ext cx="4176720" cy="4826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Оригинальный, хотя и мрачный прогноз предло-жил московский профес-сор Геннадий Бельчанс-кий, заведующий лабо-раторией космического мониторинга арктических экосистем Института проб-лем экологии и эволюции им.А.Н.Северцова. Данные, собранные его лабораторией, говорят о том, что через несколько</a:t>
            </a:r>
            <a:endParaRPr b="0" lang="en-US" sz="2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24000" y="5589360"/>
            <a:ext cx="849600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десятилетий весь север России будет представлять собой одно </a:t>
            </a:r>
            <a:r>
              <a:rPr b="1" lang="ru-RU" sz="2400" spc="-1" strike="noStrike">
                <a:solidFill>
                  <a:srgbClr val="ff3300"/>
                </a:solidFill>
                <a:latin typeface="Verdana"/>
              </a:rPr>
              <a:t>большое болото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Text Box 10"/>
          <p:cNvSpPr/>
          <p:nvPr/>
        </p:nvSpPr>
        <p:spPr>
          <a:xfrm>
            <a:off x="826920" y="131760"/>
            <a:ext cx="710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Verdana"/>
              </a:rPr>
              <a:t>А может быть болото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9" name="Picture 12" descr="j0078800"/>
          <p:cNvPicPr/>
          <p:nvPr/>
        </p:nvPicPr>
        <p:blipFill>
          <a:blip r:embed="rId3"/>
          <a:stretch/>
        </p:blipFill>
        <p:spPr>
          <a:xfrm>
            <a:off x="250920" y="2708280"/>
            <a:ext cx="3576600" cy="2567160"/>
          </a:xfrm>
          <a:prstGeom prst="rect">
            <a:avLst/>
          </a:prstGeom>
          <a:ln w="0">
            <a:noFill/>
          </a:ln>
        </p:spPr>
      </p:pic>
    </p:spTree>
  </p:cSld>
  <p:transition advTm="15000">
    <p:blinds dir="horz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17" descr="Зеленый мох болота"/>
          <p:cNvPicPr/>
          <p:nvPr/>
        </p:nvPicPr>
        <p:blipFill>
          <a:blip r:embed="rId1"/>
          <a:stretch/>
        </p:blipFill>
        <p:spPr>
          <a:xfrm>
            <a:off x="468360" y="404640"/>
            <a:ext cx="4711680" cy="57610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1" descr="На болоте - деревня болото шустиково природа фото фотосайт"/>
          <p:cNvPicPr/>
          <p:nvPr/>
        </p:nvPicPr>
        <p:blipFill>
          <a:blip r:embed="rId2"/>
          <a:stretch/>
        </p:blipFill>
        <p:spPr>
          <a:xfrm>
            <a:off x="3203640" y="2349360"/>
            <a:ext cx="5715000" cy="428652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611280" y="1196640"/>
            <a:ext cx="7354800" cy="4530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6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фессор пояснил, что вечная мерзлота в Сибири из-за изменения климата понемногу тает. Ежегодно ее температура повышается в среднем на 0,5°С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сли тенденция не изменится, то через пару десятков лет некогда твердая почва превратится в трясину. А ведь вечномерзлая земля - это 65% территории нашей страны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есятки городов, построенные на ней, просто утонут. Невозможно станет добывать богатейшие природные ресурсы севера - от нефти и газа до древесины. На болоте и буровую установку не построишь, да и леса там расти не смогут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advTm="15000">
    <p:blinds dir="horz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3000"/>
                            </p:stCondLst>
                            <p:childTnLst>
                              <p:par>
                                <p:cTn id="2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0"/>
                            </p:stCondLst>
                            <p:childTnLst>
                              <p:par>
                                <p:cTn id="25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9000"/>
                            </p:stCondLst>
                            <p:childTnLst>
                              <p:par>
                                <p:cTn id="27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5472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Другой сценарий</a:t>
            </a: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4" name="Picture 4" descr="720big"/>
          <p:cNvPicPr/>
          <p:nvPr/>
        </p:nvPicPr>
        <p:blipFill>
          <a:blip r:embed="rId1"/>
          <a:stretch/>
        </p:blipFill>
        <p:spPr>
          <a:xfrm>
            <a:off x="4643280" y="1125360"/>
            <a:ext cx="4321440" cy="42483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0" descr="721big"/>
          <p:cNvPicPr/>
          <p:nvPr/>
        </p:nvPicPr>
        <p:blipFill>
          <a:blip r:embed="rId2"/>
          <a:stretch/>
        </p:blipFill>
        <p:spPr>
          <a:xfrm>
            <a:off x="611280" y="2997360"/>
            <a:ext cx="4174920" cy="36162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3" descr="j0078822"/>
          <p:cNvPicPr/>
          <p:nvPr/>
        </p:nvPicPr>
        <p:blipFill>
          <a:blip r:embed="rId3"/>
          <a:stretch/>
        </p:blipFill>
        <p:spPr>
          <a:xfrm>
            <a:off x="6114960" y="4387680"/>
            <a:ext cx="3029040" cy="247032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Verdana"/>
              </a:rPr>
              <a:t>климатической катастрофы представил Международный научный комитет по Арктике и межправительственный Арктический совет.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64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Verdana"/>
              </a:rPr>
              <a:t>В документе под названием "Оценка климатического воздействия на Арктику" 250 ведущих ученых мира предсказывают, что к 2070 г. северная полярная шапка Земли полностью растает. Из-за этого уровень воды в Мировом океане поднимется на целый метр, и бесчисленные квадратные километры суши окажутся затопленными.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advTm="15000">
    <p:blinds dir="horz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4000"/>
                            </p:stCondLst>
                            <p:childTnLst>
                              <p:par>
                                <p:cTn id="29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6000"/>
                            </p:stCondLst>
                            <p:childTnLst>
                              <p:par>
                                <p:cTn id="30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7000"/>
                            </p:stCondLst>
                            <p:childTnLst>
                              <p:par>
                                <p:cTn id="30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8000"/>
                            </p:stCondLst>
                            <p:childTnLst>
                              <p:par>
                                <p:cTn id="31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5" descr="final_IMG_0065"/>
          <p:cNvPicPr/>
          <p:nvPr/>
        </p:nvPicPr>
        <p:blipFill>
          <a:blip r:embed="rId1"/>
          <a:stretch/>
        </p:blipFill>
        <p:spPr>
          <a:xfrm>
            <a:off x="468360" y="476280"/>
            <a:ext cx="8373960" cy="578808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611280" y="1773000"/>
            <a:ext cx="813744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подводные города превратятся почти все европейские столицы, включая Лондон, Париж, Берлин и Мадрид, крупнейшие города США - Вашингтон и Нью-Йорк - и значительная часть территории России, включая Петербург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ато Северный морской путь будет открыт для судоходства круглый год - было бы для чего по нему плавать..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1957320" y="620640"/>
            <a:ext cx="561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Verdana"/>
              </a:rPr>
              <a:t>А может быть и море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1" name="Picture 9" descr="j0078781"/>
          <p:cNvPicPr/>
          <p:nvPr/>
        </p:nvPicPr>
        <p:blipFill>
          <a:blip r:embed="rId2"/>
          <a:stretch/>
        </p:blipFill>
        <p:spPr>
          <a:xfrm>
            <a:off x="4500720" y="4991040"/>
            <a:ext cx="3816360" cy="1633680"/>
          </a:xfrm>
          <a:prstGeom prst="rect">
            <a:avLst/>
          </a:prstGeom>
          <a:ln w="0">
            <a:noFill/>
          </a:ln>
        </p:spPr>
      </p:pic>
    </p:spTree>
  </p:cSld>
  <p:transition advTm="15000">
    <p:blinds dir="horz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6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6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6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6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4000"/>
                            </p:stCondLst>
                            <p:childTnLst>
                              <p:par>
                                <p:cTn id="34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6000"/>
                            </p:stCondLst>
                            <p:childTnLst>
                              <p:par>
                                <p:cTn id="3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8000"/>
                            </p:stCondLst>
                            <p:childTnLst>
                              <p:par>
                                <p:cTn id="35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2T04:43:20Z</dcterms:created>
  <dc:creator/>
  <dc:description/>
  <dc:language>en-US</dc:language>
  <cp:lastModifiedBy>Nabster</cp:lastModifiedBy>
  <dcterms:modified xsi:type="dcterms:W3CDTF">2010-06-02T19:58:35Z</dcterms:modified>
  <cp:revision>47</cp:revision>
  <dc:subject/>
  <dc:title>Слайд 1</dc:title>
</cp:coreProperties>
</file>